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E08-738B-43BA-869C-6EDE67A1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1D3-39B8-413E-B620-DD3CCA9D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C9E-FCE5-4FA7-BBB9-609CBC2A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047-D5DF-4247-B6AE-B96EC762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876-2D9D-4FCD-9DD0-46333395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F4C-80FF-4E3F-B1FF-2B20696D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532-2D4E-43FA-ACF5-78955942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1D1-273D-4484-AC99-2FFA3E7D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8AC-AB80-4C9D-A068-4C804CC5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106-0604-4D13-AC74-2F73FA5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77B-D366-4351-AB41-4C429E81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88E-89AD-4418-B13D-831E65B6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05CF-07D5-4422-8631-86BFAF67F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68360" y="-243000"/>
            <a:ext cx="10080720" cy="74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1:00:28Z</dcterms:created>
  <dc:creator>Peter Grant</dc:creator>
  <dc:description/>
  <dc:language>en-US</dc:language>
  <cp:lastModifiedBy>Peter Grant</cp:lastModifiedBy>
  <dcterms:modified xsi:type="dcterms:W3CDTF">2012-04-18T11:05:12Z</dcterms:modified>
  <cp:revision>2</cp:revision>
  <dc:subject/>
  <dc:title>Slide 1</dc:title>
</cp:coreProperties>
</file>